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4D5972-DB4D-4A38-95FC-0523CE83D56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5C151E-26E3-4602-B316-3A04F1428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A362D2-57A8-48AC-B567-8EAC5EDD0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445E44-3F7A-4132-A5CB-4320D44A4F5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C10B2C-9894-481C-B593-99C40A842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F3AD40-F0F4-483D-81C6-5FD4F31CA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1C5555-B95A-4B09-9A6B-EFA424F89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19BCC-EA18-4FCE-A73E-923F7D97B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AB24C5-7F0C-4471-B26A-4919B784F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27EBDC-8824-4995-A85A-E7EB8C101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3B17C3-4D45-445B-8DB8-FC8303688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668172-DCCF-4B97-A96C-A6660C474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CBC6D-CC18-45CE-8EE3-FE04BD2EAF43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0560" y="2205000"/>
            <a:ext cx="5616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华文新魏"/>
              </a:rPr>
              <a:t>第十章</a:t>
            </a:r>
            <a:r>
              <a:rPr b="1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60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05600" indent="-2714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85760" indent="-217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因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85760" indent="-217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降低颅内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19920" indent="-21708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脱水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19920" indent="-21708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激素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19920" indent="-21708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冬眠低温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19920" indent="-21708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辅助过度换气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19920" indent="-21708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施行手术减压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脑疝的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关键在于早期发现和处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患者入院后即给予降压、降颅压等治疗。入院后第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患者出现烦躁不安、频繁呕吐、血压升高、脉搏呼吸缓慢，双侧瞳孔不等大，对光反射迟钝，呈浅昏迷状态，立即行颅骨钻孔血肿穿刺引流术，术后给予降压、降颅压、预防感染、脑保护、营养支持等治疗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①该患者可能出现了什么问题？为防止颅内压升高应加强哪些护理措施？②颅骨钻孔血肿穿刺引流术后的护理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脑组织灌注量改变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脑血流量持续增加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（有）体液不足（的危险）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颅内压增高引起剧烈呕吐及应用脱水剂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有受伤的危险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意识障碍、视力障碍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脑疝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意识障碍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脑疝形成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常规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休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位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吸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适当限制入液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药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生活护理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防止颅内压骤然升高的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保持呼吸道通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避免剧烈咳嗽和便秘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及时控制癫痫发作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躁动的处理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过度换气的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冬眠低温疗法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低温环境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冬眠疗法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严密观察病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缓慢复温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脑室引流的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密切观察引流通畅性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观察引流液的量、颜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脑室引流速度的调控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脑室持续引流中的故障及处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术后并发症的监护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引流管的拔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脑脊液分流术后的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脑疝急救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降低颅内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保持呼吸道通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密切观察意识、瞳孔、呼吸、心搏的变化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紧急作好术前特殊检查及术前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颅腔内容物体积增加如脑组织水肿、脑充血和脑积水，颅内出现异常如血肿、肿瘤和脓肿，颅腔容积变小如狭颅畸形、广泛的颅骨凹陷性骨折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头痛、呕吐、视神经盘水肿为颅内压增高三主征。注意脑疝迹象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解除病因是最理想和最有效的治疗方法。非手术对症治疗包括脱水治疗、激素治疗、过度通气、冬眠低温疗法；手术治疗包括开颅切除病变组织、颅骨切除术、建立脑脊液引流系统等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密切观察生命体征、神志、瞳孔及肢体运动改变；避免引起颅内压急骤升高的因素；做好脑室引流术的护理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识记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列举颅内压增高的相关因素、辅助检查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描述颅内压增高及脑疝的临床表现和治疗原则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理解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解释颅内压增高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三主征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的原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归纳颅内压增高患者的护理措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颅内压增高患者并为其制订护理计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思考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39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因“反复头痛、呕吐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月余，伴视物模糊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个月”入院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个月前无明显诱因出现双额部胀痛，在劳累或情绪激动时更明显，自服止痛药稍有缓解，偶伴有呕吐，严重时呈喷射状，一直未予检查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个月前自觉视力明显减弱，伴注视上方物体稍困难，头痛、呕吐等症状较前剧烈，入院检查见双侧视神经盘水肿，头颅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MRI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检查见颅内松果体区有一病变，脑积水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请问：该患者目前主要的护理诊断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合作性问题是什么？该患者非手术治疗的护理措施有哪些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案例解析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该患者自诉反复头痛，存在“疼痛  与颅内压增高有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；视物模糊，存在“有受伤的危险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视力障碍有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；患者有呕吐，严重时呈喷射状，存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液不足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体液不足的危险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颅内压增高引起剧烈呕吐有关”；因脑积水引起颅内压增高，存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：脑疝”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非手术治疗护理措施：休息和体位（抬高床头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°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°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；保持呼吸道通畅、吸氧；严密观察生命体征、意识状态、瞳孔和神经系统病征，警惕脑疝发生；控制液体入量；防止颅内压骤然升高；遵医嘱用药并观察效果；按医嘱给予冬眠低温治疗；讲解疾病知识，给予心理支持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自测题 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下列不是颅内压增高者的呕吐特点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常为喷射状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多在头痛剧烈时出现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常与饮食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常为严重颅内高压唯一早期症状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幕下肿瘤者发生率较高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脑疝致命的主要原因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大脑皮质运动区广泛受压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颅内血管广泛受压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小脑受压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脑干受压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脑脊液循环严重障碍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颅内压增高三主征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血压升高、脉缓有力、呼吸深慢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眩晕、呕吐、共济失调</a:t>
            </a:r>
            <a:br>
              <a:rPr sz="3600"/>
            </a:b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头痛、呕吐、视神经盘水肿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头痛、颈项强直、凯尔尼格征阳性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昏迷、一侧瞳孔散大、对侧肢体痉挛性瘫痪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对颅内高压患者处理错误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密切观察病情变化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保持出入量平衡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保持排便通畅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呼吸不畅可气管切开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应用冰帽降温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颅脑损伤患者取床头抬高卧位的主要目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减轻头晕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减轻头痛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减轻脑水肿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减少呕吐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改善呼吸状态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脑水肿患者行冬眠低温疗法，物理降温时维持肛温在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2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25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8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28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33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35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6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℃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参考答案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. C    2. D    3. C    4. B    5. C    6. D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颅内压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(intracranial pressur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ICP)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是指颅腔内容物对颅腔壁所产生的压力，通常以侧卧位时腰段脊髓蛛网膜下腔穿刺所测得的脑脊液压为代表。成人的正常颅内压为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0.7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.0kP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7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00mmH</a:t>
            </a:r>
            <a:r>
              <a:rPr b="0" lang="en-US" sz="36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O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，儿童的正常颅内压为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0.5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.0kP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5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00mmH</a:t>
            </a:r>
            <a:r>
              <a:rPr b="0" lang="en-US" sz="36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O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179280" y="1371240"/>
            <a:ext cx="8856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颅内压增高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intracranial hypertension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是神经外科常见临床病理综合征，是颅脑损伤、脑肿瘤、脑出血、脑积水和颅内炎症等疾病引起颅腔内容物体积增加，导致颅内压持续在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.0kP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00mmH</a:t>
            </a:r>
            <a:r>
              <a:rPr b="0" lang="en-US" sz="36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O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以上，并出现头痛、呕吐、视神经盘水肿等相应的综合征，称为颅内压增高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64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。因“眩晕、左侧肢体活动无力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”就诊。患者既往高血压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1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，未规律服药，于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前与儿子发生争执，出现头晕、左侧肢体活动无力，伴恶心、呕吐，为喷射性，呕吐物为胃内容物，被家人送入急诊，急诊检查头颅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示右侧基底节区出血，出血量约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5m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检：血压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170/120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体温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36.5℃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脉搏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7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呼吸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16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双侧瞳孔等大等圆，直径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2.5m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以高血压脑出血收入院治疗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问题：该患者护理评估的内容有哪些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颅内压增高：头痛、呕吐、视神经盘水肿是颅内压增高的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三主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头痛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呕吐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视乳头盘水肿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其他症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脑疝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脑幕切迹疝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枕骨大孔疝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3" name="Picture 2" descr=""/>
          <p:cNvPicPr/>
          <p:nvPr/>
        </p:nvPicPr>
        <p:blipFill>
          <a:blip r:embed="rId1"/>
          <a:stretch/>
        </p:blipFill>
        <p:spPr>
          <a:xfrm>
            <a:off x="5219640" y="1125360"/>
            <a:ext cx="3745080" cy="4996080"/>
          </a:xfrm>
          <a:prstGeom prst="rect">
            <a:avLst/>
          </a:prstGeom>
          <a:ln w="0">
            <a:noFill/>
          </a:ln>
        </p:spPr>
      </p:pic>
      <p:sp>
        <p:nvSpPr>
          <p:cNvPr id="124" name="Rectangle 7"/>
          <p:cNvSpPr/>
          <p:nvPr/>
        </p:nvSpPr>
        <p:spPr>
          <a:xfrm>
            <a:off x="5219640" y="6135840"/>
            <a:ext cx="374508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46ca6"/>
                </a:solidFill>
                <a:latin typeface="Calibri"/>
                <a:ea typeface="宋体"/>
              </a:rPr>
              <a:t>图</a:t>
            </a:r>
            <a:r>
              <a:rPr b="0" lang="en-US" sz="1400" spc="-1" strike="noStrike">
                <a:solidFill>
                  <a:srgbClr val="046ca6"/>
                </a:solidFill>
                <a:latin typeface="Calibri"/>
                <a:ea typeface="宋体"/>
              </a:rPr>
              <a:t>10-3</a:t>
            </a:r>
            <a:r>
              <a:rPr b="0" lang="zh-CN" sz="1400" spc="-1" strike="noStrike">
                <a:solidFill>
                  <a:srgbClr val="046ca6"/>
                </a:solidFill>
                <a:latin typeface="Calibri"/>
                <a:ea typeface="宋体"/>
              </a:rPr>
              <a:t>一侧小脑幕切迹疝引起的典型瞳孔变化</a:t>
            </a:r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头颅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断层扫描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及磁共振成像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MRI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脑血管造影或数字减影血管造影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S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头颅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X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线摄片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腰椎穿刺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颅内压监护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十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颅内压增高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了解引起颅内高压症的病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年龄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了解是否存在致使颅内压急剧升高的因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4-21T12:53:20Z</dcterms:modified>
  <cp:revision>85</cp:revision>
  <dc:subject/>
  <dc:title>内科护理学</dc:title>
</cp:coreProperties>
</file>